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0F7-2DA0-4A51-A7E3-07C0DC82AA9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F371-BCC3-4DEA-A6BD-33C52514990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B1F-597A-45E9-9C83-5DA22014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F70-FE48-42E6-837D-5D3E7EF6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CDD-2806-4D9B-8460-F1C98DB2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586-0721-46AD-BC9B-D15F55AA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D9AE-B85A-418B-8413-158BDC29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70D-EF2D-49DC-9415-60FC7D4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089D-BE77-4129-B2AC-C899AA30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4823-5069-4B8A-8862-8427A4A7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BB2-F7FF-4027-9228-3BF52A9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6FEA-83B2-44DE-A155-D81C22CA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DC3-21EA-43F9-A4D7-B5301AA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EE3-8664-4A5D-AD62-0D9B9C69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F6B8-4F38-4F2A-8E6F-9CCFF75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015-E706-469A-BB27-DF3916D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00A-A95A-4CCF-9077-02A00185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29C-12C8-44CB-8EEE-5E8338F1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CC9-707D-40EA-AED4-1106F6FD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9A1-7CC7-45D3-BE2D-1DD46041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29A-DC29-4296-A977-4A57E4F1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7C3-B243-4457-A8DF-BD5DEC2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F0C-EF34-4F83-8B0C-E67B506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18E-502A-4C02-B1A7-FF9DA2B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AC7-4337-4076-942A-5148383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453-010F-4A03-BA30-07C9DDC3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4046-341C-43BA-AD09-CFFF37781BBB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E0C7-9BBD-44E3-AB42-07ED747E748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PROFILAKTYKA</a:t>
            </a:r>
            <a:r>
              <a:rPr b="0" lang="pl-PL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ba0023"/>
                </a:solidFill>
                <a:latin typeface="Bookman Old Style"/>
              </a:rPr>
              <a:t>HIV A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rostokąt 2"/>
          <p:cNvSpPr/>
          <p:nvPr/>
        </p:nvSpPr>
        <p:spPr>
          <a:xfrm>
            <a:off x="900000" y="-1603440"/>
            <a:ext cx="73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"/>
          <p:cNvSpPr/>
          <p:nvPr/>
        </p:nvSpPr>
        <p:spPr>
          <a:xfrm>
            <a:off x="755640" y="170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jwięcej wirusa w organizmie osoby nim zakażonej jest kolejno we krwi, w nasieniu mężczyzn i w wydzielinach narządów płciowych kobiet. Podczas kontaktu seksualnego możliwe jest przeniesienie zakażenia na partnera seksualneg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61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rostokąt 3"/>
          <p:cNvSpPr/>
          <p:nvPr/>
        </p:nvSpPr>
        <p:spPr>
          <a:xfrm>
            <a:off x="546120" y="1557360"/>
            <a:ext cx="79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IV nie jest najbardziej zakaźnym wirusem, dzięki czemu nie każdy kontakt seksualny z osobą zakażoną musi skończyć się przeniesieniem zakażenia na partnera seksualnego. Wiadomo jednak, że pewne techniki seksualne są bardziej ryzykow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analne (doodbytnicze) pociągają za sobą największe ryzyko zarówno dla strony „biernej”, jak i „czynnej” (śluzówka odbytu nie jest fizjologicznie przystosowana do aktywności seksualnej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waginalne (dopochwowe) są bardziej ryzykowne dla kobiet, niż dla mężczyz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oralne nie są tak bezpieczne, jak sądzono na początku epidemii AIDS. Wiadomo już, że ryzyko z nim związane jest mniejsze, niż w przypadku kontaktów waginalnych, jednak wiadomo także, iż są one bardziej ryzykowne dla osób, których jama ustna będzie miała kontakt z nasieniem lub krwią zawierającymi w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KONTAKTY SEKSUALNE,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A ZAKAŻENIA KOBIE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biety zakażają się łatwiej. Wynika t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budowy ich ciała. Posiadają większa powierzchnię błony śluzowej narządów płciowy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ięcej wirusa HIV znajduje się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wydzielinach mężczyzn niż kob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sienie po wytrysku pozostaje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narządach kobiety, co wydłuża okres jego kontaktu z błoną śluzow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SYTUACJE SPRZYJAJĄCE SZERZENIU SIĘ HIV </a:t>
            </a:r>
            <a:br>
              <a:rPr sz="2800"/>
            </a:b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W KONTAKTACH SEKSUALNYCH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bez zabezpiecz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zęsta zmiana partnerów seksual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ytucja (seks bez zabezpiecze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godne kontak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łody wiek dziewczą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podczas miesiącz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spólne gadże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wałt (tabletki gwał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ŻENIA - KREW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 zakażenia poprzez krew może dojść tylko wówczas gdy krew zakażonej osoby trafi do naszego krwiobiegu. Możę się to stać w następujących przypadk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ansfuzja krwi (od 1987r. zakażenie bardzo mało prawdopodobne w Polsce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paraty krwiopochod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szczep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emofilia (od 1992r. nie zarejestrowano żadnego przypadk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sterylny sprzęt medyczny (odsetek zakażonych mniejszy niż 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ZENIA - KREW 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jmowanie narkotyków drogą dożylną (światło igł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biegi kosmetyczne, tatuaż, pershing, kolczykowanie w nieprofesjonalnych gabinet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ie przestrzeganie zasad aseptyki w salonach fryzjersko-kosmety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ntysta, służba zdrowia – sprzęt, zabiegi krwawe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terstwo krw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ijaty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zawodowa – służby mundurowe, służba zdrow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ializ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takt z krwią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wanie przez wiele osób tej samej golarki, maszynki do golenia, depila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1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DROGI ZAKAŻENIA – KREW\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rostokąt 2"/>
          <p:cNvSpPr/>
          <p:nvPr/>
        </p:nvSpPr>
        <p:spPr>
          <a:xfrm>
            <a:off x="539640" y="17733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IV jest dosyć wrażliwy na warunki środowiska, wskutek czego jednorazowy sprzęt medyczny oraz metody sterylizacji stosowane w szpitalach zapobiegają zakażeniom szpitalnym tym wirus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dukty medyczne pochodzenia ludzkiego ze stacji krwiodawstwa w Polsce, jak np. preparaty składników krwi, są uważane za bezpieczne. Od wielu lat w Polsce bada się krew krwiodawców metodami molekularnymi wykrywającymi materiał genetyczny HIV oraz wirusów zapalenia wątroby typu B i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A WERDYKALN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MATKA-DZIECK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436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ewnątrzmaciczna (przejście wirusa przez łożysko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płodu na krew podczas porod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okołoporodowym – podczas karmienia piersią ryzyko zakażenia wynosi około 20%, ale wzrasta do 40% w okresie wzmożonej wiremii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yzyko zakażenia dziecka jest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2-4 tygodnia od momentu zakażenia matki i gdy jest w zaawansowanym stadium choroby (okres nasilenia wiremii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est szansa w 98%, że dziecko będzie zdrowe, jeśli zostanie zastosowane leczenie antywirusow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O DZIEJE SIĘ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PO ZAKAŻENIU HIV?</a:t>
            </a:r>
            <a:br>
              <a:rPr sz="4000"/>
            </a:b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wykres naturalnego przebiegu zakażenia HIV – bez leczen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2" name="Picture 6" descr="Z PREZ"/>
          <p:cNvPicPr/>
          <p:nvPr/>
        </p:nvPicPr>
        <p:blipFill>
          <a:blip r:embed="rId1"/>
          <a:stretch/>
        </p:blipFill>
        <p:spPr>
          <a:xfrm>
            <a:off x="900000" y="1989000"/>
            <a:ext cx="7232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99"/>
                </a:solidFill>
                <a:latin typeface="Bookman Old Style"/>
              </a:rPr>
              <a:t>SAMOPOCZUCIE PO ZAKAŻENIU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6" descr="DO PREZENT"/>
          <p:cNvPicPr/>
          <p:nvPr/>
        </p:nvPicPr>
        <p:blipFill>
          <a:blip r:embed="rId1"/>
          <a:stretch/>
        </p:blipFill>
        <p:spPr>
          <a:xfrm>
            <a:off x="539640" y="1593720"/>
            <a:ext cx="8209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UMOWA </a:t>
            </a:r>
            <a:r>
              <a:rPr b="1" lang="pl-PL" sz="44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zanujemy siebie nawzaj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śmiejemy się z wypowiedz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wulgarnego słownictw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zmuszamy nikogo do wyrażania własnych poglądów, opini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ażdy ma prawo do wyrażania własnego zdania na podejmowany w czasie zajęć tema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obrażamy się i nie urażamy uczuć i godnośc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dna osoba mówi, reszta słucha – nie przekszykujemy się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telefonów komórkowych podczas zaję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rostokąt 2"/>
          <p:cNvSpPr/>
          <p:nvPr/>
        </p:nvSpPr>
        <p:spPr>
          <a:xfrm>
            <a:off x="324000" y="1484280"/>
            <a:ext cx="83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chorób definiujących AIDS zalicza się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infekcje  oportunistyczn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 czyli  zakażenia  wirusowe, bakteryjne,  grzybicze,  które  dla  osób  z wydolnym układem   immunologicznym   rzadko   bywają chorobotwórcze,  u  osób  z upośledzoną  przez  HIV odpornością wywołują poważne, czasem zagrażające życiu, chorob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e  występują  u  osób  zakażonych HIV częściej i w  innych przedziałach wiekowych  niż w populacji ogólne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zespoły chorobow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wiązane bezpośrednio z zakażeniem H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1. INFEKCJE OPORTUNISTYCZ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70"/>
                </a:solidFill>
                <a:latin typeface="Arial"/>
              </a:rPr>
              <a:t>bakteryjn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gruźlica, zakażenie prątkiem ptasim, kiła, nawracająca posocznica salmonellozo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wirus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ytomegalia, półpasiec, opryszczka, WZW typ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grzybicz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kandydoz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pierwotniak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pneumocystoza, toksoplazmoz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2. 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  chłoniaki, mięsak Kaposiego i rak szyjki  macic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3. ZESPOŁY CHOROBOWE WSKAZUJĄCE NA AI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ncefalopatia (inaczej zespół otępienny)  związana z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espół wyczerpania spowodowany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HOROBY PRZENOSZONE DROGĄ PŁCIOW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Bakteryjn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iła (krętek biały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Chlamydiozy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eżączka (dwoinka rzeżączk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Wirusow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pryszczka genitaln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łykciny kończyste (HPV – wirus brodawczaka ludzkiego, może być przyczyną rozwoju nowotworów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owe zapalenie wątroby (wirus HBV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AIDS (wirus HIV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Grzyb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andydoza (drożdżyc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ierwotniakow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5543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ęsistkowica ( rzęsistek pochwowy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asożytn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Świerzb (świerzbowiec ludzki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szawica łonowa (wesz łonow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RYZYKO ZAKAŻEN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Przed zakażeniem wirusem HIV drogą płciową chroni 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"/>
              </a:rPr>
              <a:t>wyłączn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BSTYNENCJA SEKSUALN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WAŁY ZWIĄZEK Z JEDNYM NIE ZAKAŻONYM PARTNEREM OPART NA WZAJEMNEJ WIERNOŚCI.</a:t>
            </a:r>
            <a:br>
              <a:rPr sz="2400"/>
            </a:br>
            <a:br>
              <a:rPr sz="2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Zmniejsza ryzyko zakaże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PÓŹNIENIE INICJACJI SEKSUALNEJ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WANIE PREZERWATYW WE WSZYSTKICH PRZYGODNYCH KONTAKTACH SEKSUALNY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PREZERWATYW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la ludzi aktywnych seksualnie prawidłowo użyta prezerwatywa jest dobrym zabezpieczeniem przed ryzykiem zakażenia chorobami przenoszonymi drogą płciową, w tym wirusem HIV oraz niepożądaną ciąż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- PREZERWATYW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dzie można kupić prezerwatywę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y różnią się rozmiar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ak długo prezerwatywa nadaje się do użyt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bezpiecza przed chorob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pewnia pełne bezpieczeństw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być użyta powtórn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łatwo przedziurawi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zsunąć się podczas stosun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są prezerwatywy dla kobi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powinno się smarowa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Statystyka</a:t>
            </a: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Na świecie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żyje 36,7 mln ludzi z HIV/AI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2016r. zakażenie HIV rozpoznan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 1,8mln ludz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iczba zgonów z powodu AIDS uległa zmniejszeniu o 48%, ale w 2016r. z powodu HIV/AIDS zmarło około 1mln lud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Statysty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Polsk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wdrożenia badań w 1985r. do 31.07.2018r. stwierdzo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każenie HIV u 23.311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horowań na AIDS u 3.627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gonów z powodu AIDS – 139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Województwo kujawsko-pomorski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początku rejestracji (tj. od 1985 r.) do 23.11.2018 r. w regionie odnotow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874 osoby zakażone wirusem HIV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88 zachorowań na AI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94 osoby zmarły z powodu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ĆWICZENIE - PRAWNY OBOWIĄZEK POINFORMOWANIA </a:t>
            </a:r>
            <a:br>
              <a:rPr sz="3200"/>
            </a:b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O ZAKAŻENIU HIV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7280" y="184428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pierwszego kontraktu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dentyst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małżonka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jbliższą rodzin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m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rtnera seksualnego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codawc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prac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EFINICJE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HIV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– ludzki wirus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   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AIDS</a:t>
            </a:r>
            <a:r>
              <a:rPr b="0" lang="pl-PL" sz="4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zespół nabytego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WIRUS HIV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HIV -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uman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mmunodeficiency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irus czyli  ludzku wirus upośledzenia odpornośc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rganizm ludzki wyposażony jest w system obronny tzw. system immunologiczny, który zwalcza atakujące nas infekcje i choroby.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o wniknięciu do organizmu powoli osłabia ten system, doprowadzając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o do ostatecznego wyniszczenia. Gdy system immunologiczny zostanie zniszczony, a tym samym  obniżona zostanie jego zdolność do zwalczania zakażeń, zaczynają pojawiać się choroby, z którymi sprawny system immunologiczny skutecznie by sobie poradził tzw. choroby oportunistycz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rzez wiele lat może uszkadzać system immunologiczny, zanim osoba zakażona zacznie chorować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Zazwyczaj osoba zakażona wirusem HIV ma dobre samopoczucie i nie wie , że jest zakażona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o że ktoś jest zakażony wirusem HIV nie oznacza, że jest  chory na AIDS. O AIDS mówimy wówczas gdy pojawią się choroby charakterystyczne dla tej jednostki chorobowe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CHOROBA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nie jest samodzielną jednostką chorobową. Stanowi zespół objawów wielu chorób pojawiających się w wyniku upośledzenia odporności. Jest końcowym stadium zakażenia HIV, występującym zazwyczaj po wielu latach trwania infekcji u osób, które o swoim zakażeniu nie wiedz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soby zdiagnowane, mogą korzystać z nowoczesnego leczenia zapobiegającego wystąpieniu AIDS. Terapia jest tym bardziej skuteczna, im szybciej zostanie rozpoczęta. </a:t>
            </a:r>
            <a:r>
              <a:rPr b="0" lang="pl-PL" sz="2400" spc="-1" strike="noStrike">
                <a:solidFill>
                  <a:srgbClr val="ffff70"/>
                </a:solidFill>
                <a:latin typeface="Arial"/>
              </a:rPr>
              <a:t>Dlatego warto robić testy na HI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jest nadal chorobą śmierteln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MATERIAŁ ZAKAŹN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rus HIV znajduje się we wszystkich płynach ustrojowy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re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dzieliny narządów płciowych zakażonych kobiet i mężczyzn (sperma, wydzielina pochwowa, odbytowa), mleko matki (dla noworodka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łyn mózgowo-rdzeniow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Tylko poprzez te płyny ustrojowe może dojść do zakażenia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śli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łz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ocz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miocin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Materiał ten staje się zakaźny gdy znajduje się w nim Kr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– w jakich sytuacjach nie zarazimy się wirusem HIV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5" descr="aids go prezent"/>
          <p:cNvPicPr/>
          <p:nvPr/>
        </p:nvPicPr>
        <p:blipFill>
          <a:blip r:embed="rId1"/>
          <a:stretch/>
        </p:blipFill>
        <p:spPr>
          <a:xfrm>
            <a:off x="1979640" y="1916280"/>
            <a:ext cx="5327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ROGI ZAKAŻENI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ONTAKTY SEKSUALNE – 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(stosunek dopochwowy i analny oraz seks oral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R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DROGA WERTYKALNA MATKA – DZIEC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Ćwiczenie (podział na 3 grup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KONTAKTY SEKSUAL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27280" y="2204640"/>
            <a:ext cx="453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Zakażane są wszystkie wydzieliny układu płciowego męskiego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i żeńskiego.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model w żyle"/>
          <p:cNvPicPr/>
          <p:nvPr/>
        </p:nvPicPr>
        <p:blipFill>
          <a:blip r:embed="rId1"/>
          <a:stretch/>
        </p:blipFill>
        <p:spPr>
          <a:xfrm>
            <a:off x="324000" y="2349360"/>
            <a:ext cx="38383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4T08:11:46Z</dcterms:created>
  <dc:creator>knowak</dc:creator>
  <dc:description/>
  <dc:language>en-US</dc:language>
  <cp:lastModifiedBy>hbielawska</cp:lastModifiedBy>
  <dcterms:modified xsi:type="dcterms:W3CDTF">2020-01-23T09:04:23Z</dcterms:modified>
  <cp:revision>121</cp:revision>
  <dc:subject/>
  <dc:title>PROFILAKTYKA </dc:title>
</cp:coreProperties>
</file>